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828-477C-4BEB-A276-E987748E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6F8-9268-48BD-9C37-6957BE4D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45D-7E66-4ABB-BA28-B652A172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6C6-4C34-4420-B01D-869A44EA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1FF-29FB-4F53-9AFA-D22B13D0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445-A5C8-4192-AD78-CF811CC6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46F-A07A-4556-B28B-F14368FD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393-70A6-4469-9337-92E3ABFC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FC5-E6D5-46B6-817E-D9E4B1D2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FE5-1461-4782-9296-28314E33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474-B40B-4E58-959E-DC6297A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A91-15D0-4769-894A-C357C33B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9630-338A-4AE2-97AE-DB2197EA378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5796000" y="1125360"/>
            <a:ext cx="295272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عطيني أول قرب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روحي لعطفك جوع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هيدا عيدي وأنا اليوم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بلشت بعمري التاني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5-11T17:59:43Z</dcterms:modified>
  <cp:revision>17</cp:revision>
  <dc:subject/>
  <dc:title>PowerPoint Presentation</dc:title>
</cp:coreProperties>
</file>